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B9E05-32AF-4D9B-ABC0-F3C3E0F881CE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5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927C2-7D5C-4950-95B4-75999E7CC582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Calibri"/>
                <a:ea typeface="PMingLiU"/>
              </a:rPr>
              <a:t>熟悉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  <a:ea typeface="PMingLiU"/>
              </a:rPr>
              <a:t>药疗期间的护理须知（药疗监护内容）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Calibri"/>
                <a:ea typeface="PMingLiU"/>
              </a:rPr>
              <a:t>了解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  <a:ea typeface="PMingLiU"/>
              </a:rPr>
              <a:t>护士在合理用药中的作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ADD4A-91F5-4134-AF87-6BDB8017CE67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4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9684F-1C3B-4C75-A262-6AE1D79F1BB7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4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2EB80-2CA8-4170-9555-3EF4D9171B96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5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1B64E-12B7-4FA6-81D7-445D7682523F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5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9FCB6-D15F-4AFD-BD49-02891045BA0B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D7A1A8-CD66-426D-95F2-95DF9A636FF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03CF9E-6342-4097-8ABE-627994B1D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61933F-9CE6-4C7D-BCBB-527879AF7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EB8408-74C6-4B9D-BDCD-4611CC396B2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735A96-6519-44C3-8007-F5A70B574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2374C5-824B-4BFE-8A67-C69E57437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729766-15AF-4E5A-802E-92F73F44D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DA664D-1E3E-4A1C-A9F0-07E5654E0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4D1D68-18E4-4069-B669-F6FE3B5D2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FC84F3-228E-4E4B-BB4C-4B852E767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C65B47-642F-4684-815B-9CC37A91E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E1169A-1DA5-478C-BFD1-1B3DBBD8B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Click to edit the outline text format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con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Thir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our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if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ix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ven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4DC68-E543-4644-A42C-2BFA8E64AF07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Click to edit the outline text format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con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Thir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our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if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ix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ven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34920" y="2997000"/>
            <a:ext cx="568944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华文新魏"/>
              </a:rPr>
              <a:t>第三十五章    </a:t>
            </a:r>
            <a:endParaRPr b="1" lang="en-US" sz="4400" spc="-1" strike="noStrike">
              <a:solidFill>
                <a:srgbClr val="8ac8de"/>
              </a:solidFill>
              <a:latin typeface="华文新魏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华文新魏"/>
              </a:rPr>
              <a:t>影响免疫功能药物</a:t>
            </a:r>
            <a:endParaRPr b="1" lang="en-US" sz="44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课后习题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圆角矩形 1"/>
          <p:cNvSpPr/>
          <p:nvPr/>
        </p:nvSpPr>
        <p:spPr>
          <a:xfrm>
            <a:off x="1835280" y="1341360"/>
            <a:ext cx="6481800" cy="468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2f7ff"/>
              </a:gs>
              <a:gs pos="100000">
                <a:srgbClr val="f1fdff"/>
              </a:gs>
            </a:gsLst>
            <a:lin ang="16200000"/>
          </a:gradFill>
          <a:ln w="9360">
            <a:solidFill>
              <a:srgbClr val="bfdbe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治疗自身免疫性溶血性贫血的首选药是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(    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环磷酰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硫唑嘌呤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C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甲氨蝶呤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D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波尼松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E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白消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203640" y="404640"/>
            <a:ext cx="57117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684360" y="1557000"/>
            <a:ext cx="79437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华文新魏"/>
              </a:rPr>
              <a:t>熟悉：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免疫抑制剂和免疫增强剂的临床常用药物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免疫抑制剂的作用特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华文新魏"/>
              </a:rPr>
              <a:t>了解：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常用的影响免疫功能药物的不良反应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50920" y="1267920"/>
            <a:ext cx="86644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圆角矩形 1"/>
          <p:cNvSpPr/>
          <p:nvPr/>
        </p:nvSpPr>
        <p:spPr>
          <a:xfrm>
            <a:off x="539640" y="1125360"/>
            <a:ext cx="8280360" cy="5328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f2ff"/>
              </a:gs>
              <a:gs pos="100000">
                <a:srgbClr val="e8fcff"/>
              </a:gs>
            </a:gsLst>
            <a:lin ang="16200000"/>
          </a:gradFill>
          <a:ln w="9360">
            <a:solidFill>
              <a:srgbClr val="85c4d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患者，男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23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岁，主因“间断咳嗽、咳痰、发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1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年，加重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2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月余”入院。入院查体：体温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38.5 ℃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，心率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112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/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分，双肺可闻及小水泡音，右手中指两侧有粟粒样结节，食指红肿，伴触痛，右足趾肿胀，可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1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个约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5mm×5mm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紫癜，余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-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。实验室检查：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WBC 1.7×10</a:t>
            </a:r>
            <a:r>
              <a:rPr b="0" lang="en-US" sz="2800" spc="-1" strike="noStrike" baseline="30000">
                <a:solidFill>
                  <a:srgbClr val="046ca6"/>
                </a:solidFill>
                <a:latin typeface="华文新魏"/>
                <a:ea typeface="华文新魏"/>
              </a:rPr>
              <a:t>9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/L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，红细胞沉降率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110mm/h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C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反应蛋白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173ug/ml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，类风湿因子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+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。医生考虑为变态反应性疾病，医嘱给予地塞米松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10mg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Bid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，静脉滴注，地塞米松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20mg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、庆大霉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16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万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U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喷咽，每日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4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次。给药后患者体温逐渐降至正常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15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天后症状明显改善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华文新魏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圆角矩形 1"/>
          <p:cNvSpPr/>
          <p:nvPr/>
        </p:nvSpPr>
        <p:spPr>
          <a:xfrm>
            <a:off x="755640" y="2205000"/>
            <a:ext cx="7777080" cy="2952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1b8e3"/>
              </a:gs>
              <a:gs pos="100000">
                <a:srgbClr val="f7ebf8"/>
              </a:gs>
            </a:gsLst>
            <a:lin ang="16200000"/>
          </a:gradFill>
          <a:ln w="9360">
            <a:solidFill>
              <a:srgbClr val="97629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请思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（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 地塞米松治疗该病的作用原理和临床应用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（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地塞米松的不良反应和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免疫抑制剂是一类非特异性地抑制机体免疫功能的药物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作用特点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作用缺乏特异性和选择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对初次免疫应答反应抑制作用强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 药物作用与给药时间和抗原刺激的时间间隔及先后顺序密切相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多数免疫抑制剂尚有非特异性抗炎作用，抑制红、肿、热、痛反应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</a:rPr>
              <a:t>第一节 免疫抑制剂</a:t>
            </a:r>
            <a:endParaRPr b="1" lang="en-US" sz="32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755640" y="1628640"/>
            <a:ext cx="7920000" cy="38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常用药物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糖皮质激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环孢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硫唑嘌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他克莫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</a:rPr>
              <a:t>第一节 免疫抑制剂</a:t>
            </a:r>
            <a:endParaRPr b="1" lang="en-US" sz="32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 免疫增强剂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免疫增强剂是指可激活免疫活性细胞、增强机体的特异性或非特异性免疫功能或能加速诱导免疫应答反应，使低下的免疫功能恢复正常的一大类药物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常用药物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卡介苗、干扰素、胸腺激素、左旋咪唑、香茹多糖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课后习题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圆角矩形 1"/>
          <p:cNvSpPr/>
          <p:nvPr/>
        </p:nvSpPr>
        <p:spPr>
          <a:xfrm>
            <a:off x="1835280" y="1341360"/>
            <a:ext cx="5616360" cy="468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2f7ff"/>
              </a:gs>
              <a:gs pos="100000">
                <a:srgbClr val="f1fdff"/>
              </a:gs>
            </a:gsLst>
            <a:lin ang="16200000"/>
          </a:gradFill>
          <a:ln w="9360">
            <a:solidFill>
              <a:srgbClr val="bfdbe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植物药增强免疫功能的主要有效成分是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(    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生物碱类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有机酸类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C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黄酮苷类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D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多糖类 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E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植物雌激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	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课后习题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圆角矩形 1"/>
          <p:cNvSpPr/>
          <p:nvPr/>
        </p:nvSpPr>
        <p:spPr>
          <a:xfrm>
            <a:off x="1835280" y="1341360"/>
            <a:ext cx="6481800" cy="468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2f7ff"/>
              </a:gs>
              <a:gs pos="100000">
                <a:srgbClr val="f1fdff"/>
              </a:gs>
            </a:gsLst>
            <a:lin ang="16200000"/>
          </a:gradFill>
          <a:ln w="9360">
            <a:solidFill>
              <a:srgbClr val="bfdbe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常用于器官移植的免疫抑制剂是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(    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强的松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环磷酰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C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环孢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A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D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硫唑嘌呤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E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甲氨蝶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4T07:53:28Z</dcterms:modified>
  <cp:revision>105</cp:revision>
  <dc:subject/>
  <dc:title>内科护理学</dc:title>
</cp:coreProperties>
</file>